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8EF4-FAF9-4D26-928E-A7BD2030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E32F-4AC4-4A34-BD77-5FE43686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453-BE46-4E55-8B34-432801E7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D79-F0E5-4E41-A371-81B7FE8B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1A3-9408-41B0-B3A6-62AD89F0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3146-79AB-445F-B07E-D595A234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354B-61AB-4CC2-937E-EE98C545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6A1-A09C-4668-B5F3-2765A051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8EA-A053-4BA4-AFEA-94D2F4F7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7F76-DE2C-4F39-B227-BCAD993B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2E6-DF09-456C-9C1C-010B10EF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AE6C-2F09-43BB-BAA5-CAE182DA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F7E2-E4DE-4B84-B487-DB2D78E4D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380880"/>
            <a:ext cx="60962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362320" y="457200"/>
            <a:ext cx="49244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5f5f5f"/>
                  </a:outerShdw>
                </a:effectLst>
                <a:latin typeface="BlackChancery"/>
              </a:rPr>
              <a:t>Th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5f5f5f"/>
                </a:outerShdw>
              </a:effectLst>
              <a:latin typeface="BlackChancery"/>
              <a:ea typeface="Black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5f5f5f"/>
                  </a:outerShdw>
                </a:effectLst>
                <a:latin typeface="BlackChancery"/>
              </a:rPr>
              <a:t>Antebellum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5f5f5f"/>
                </a:outerShdw>
              </a:effectLst>
              <a:latin typeface="BlackChancery"/>
              <a:ea typeface="Black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5f5f5f"/>
                  </a:outerShdw>
                </a:effectLst>
                <a:latin typeface="BlackChancery"/>
              </a:rPr>
              <a:t>South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5f5f5f"/>
                </a:outerShdw>
              </a:effectLst>
              <a:latin typeface="BlackChancery"/>
              <a:ea typeface="BlackChancery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240" y="5410080"/>
            <a:ext cx="716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USH Chapter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ng Cotton / Slave Tra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310-3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tton’s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rn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lave Community / Resistance &amp; Revolt Pages 321-3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families and 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 of Nat Turner’s Revo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ern Social Structure / Defense of Slave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ages 328-3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78487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ocial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the Planter E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lavery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ng to Terms with the New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mig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418-4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s for 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ish Immigration vs. German Im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Machines / Revivalis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433-4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of Machine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the Reform M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, What, Why,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ts of Movements and Ide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438-4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son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/ Advo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opian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, 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m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, Why, Where &amp;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olition / Women’s Righ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442-4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lition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’s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8:03:20Z</dcterms:created>
  <dc:creator>School District U46</dc:creator>
  <dc:description/>
  <dc:language>en-US</dc:language>
  <cp:lastModifiedBy>School District U46</cp:lastModifiedBy>
  <dcterms:modified xsi:type="dcterms:W3CDTF">2010-10-02T18:03:37Z</dcterms:modified>
  <cp:revision>1</cp:revision>
  <dc:subject/>
  <dc:title>Slide 1</dc:title>
</cp:coreProperties>
</file>